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DBE-8F4B-4B33-B4FB-F1C3C3B5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03C-E755-4396-A3EC-4EC33938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6D4-0663-477D-BEBF-3B726A63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95D-4E23-4DCE-8DEA-F4CDBC59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6B7-85BA-42A7-A167-1022A0E5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8AA-286E-4A95-81C6-C95176CA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0CB-9831-48BB-8A51-BC2EC204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F7A-B0F7-45FF-88C2-1451BB72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393-F07B-491D-B758-AE0A9184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7B9B-38D9-48B5-82FD-9C41127F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4E2-CE70-408D-976F-4D416AE9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421-36C7-4420-8DB0-045FA34B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8649-427B-44D8-B183-D6D2A84EA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9200" y="58680"/>
            <a:ext cx="93283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800"/>
            </a:br>
            <a:br>
              <a:rPr sz="4800"/>
            </a:b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Our Goals for Today:</a:t>
            </a:r>
            <a:br>
              <a:rPr sz="4800"/>
            </a:b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1480" y="2590560"/>
            <a:ext cx="807696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nish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odeling of Step One in Process of Unit Planning, Assign Our Culminating Project/Performance Task, Complete Process for Step One For Your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7600" y="294840"/>
            <a:ext cx="9664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t Purpose and Identify Desired Results:  First Step in Unit Planning Process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7600" y="1834920"/>
            <a:ext cx="966492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One:  Browse through Curriculum Map and Standards for BSD 9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Language Arts.  What do we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Two:  Consider Q3 unit (no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le notable Nouns and Adjectives (stated or implied Big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a box around notable Verbs (performance task/culminating project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Three:  Look at the instructional and performanc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s are addre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our:  Choose the “Core Tasks” for the unit.  Remember no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on too many. (We Chose  Repeat Step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ive:  Brainstorm Essential Question Ideas (see UBD ch. 4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(Wilhelm p. 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uns and Adjectives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g Ideas (Essential Q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2200320"/>
            <a:ext cx="42418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war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es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cri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 tra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bs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Task/Culminating Project Id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and Contr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5920" y="2200320"/>
            <a:ext cx="42418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5 and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Five:  Brainstorm at Least three Essential Question Ideas (see UBD ch. 4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63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ential Question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6360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you tell when or if prejudice is getting in the way of making the right deci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rejudice just about race or are there other kin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prejudice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society’s social implications impact prejud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we stand to lose when we participate in a societal standard we know is wro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point of view affect how stories are told?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it matter who tells the story?  Whose story gets t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ever okay to be dishon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ll people deserve to be treated the same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cour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prejudice guide people’s ac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akes a family?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63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6360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(UBD chapter 7 and Wilhelm p. 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V video that addresses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write a newspaper article that explains the t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character 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alk show with character 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write a play of the trial, write an explanation of why they wrote what they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ick a section of the book and retell from a different point of view, justify why do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7600" y="294840"/>
            <a:ext cx="9664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t Purpose and Identify Desired Results:  First Step in Unit Planning Process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7600" y="1834920"/>
            <a:ext cx="966492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One:  Look at the Curriculum Map for the unit you will use for the Annotated Unit Plan Portfol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le notable Nouns and Adjectives (stated or implied Big Ide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t a box around notable Verbs (performance task/culminating project ide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Three:  Look at the instructional and performance obj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ones are address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Four:  From the instructional and performance objectives (standards)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the “Core Tasks” for the unit.  Remember not t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on to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. (We Chose   Repeat Step Tw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Five:  Brainstorm Essential Question Ideas (see UBD ch. 4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Wilhelm p. 6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ere We Are Headed Nex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fer process to planning for your u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skills necessary for completing performance task and acceptable evidence of understan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Backwards Plan/Plan Learning Experiences and Instru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BSD</cp:lastModifiedBy>
  <dcterms:modified xsi:type="dcterms:W3CDTF">2011-02-11T14:40:14Z</dcterms:modified>
  <cp:revision>10</cp:revision>
  <dc:subject/>
  <dc:title>PowerPoint Presentation</dc:title>
</cp:coreProperties>
</file>